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18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C1C-3280-4DB0-9F4D-A50BE456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6C3-788F-4CAD-93DA-3D987DF3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E8D-FD69-4A77-8AA3-643A6D5A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9B8-9286-4651-9EE0-840E5196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013-03AF-4869-B593-F7FE2444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CB95-BAC7-4B01-A717-0D21D36F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78F-F948-4E9D-A003-5FACEC6B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93E-160E-41B5-8988-3EF14B13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AFE-DE17-44ED-BE2B-5271F69A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08B-20D1-499A-8F34-76DB3EFA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AC1-11CF-425D-9AE3-A13DDF9D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E10-1751-4B95-8AC8-764A36D5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5673-CC40-4567-A409-7B05D76629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7467480" y="609480"/>
          <a:ext cx="990720" cy="114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609480"/>
                    <a:ext cx="990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762120" y="2666880"/>
          <a:ext cx="7772400" cy="3124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666880"/>
                    <a:ext cx="77724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120" y="60948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Sea Trials – 9</a:t>
            </a:r>
            <a:r>
              <a:rPr b="0" lang="en-GB" sz="2800" spc="-1" strike="noStrike" baseline="30000">
                <a:solidFill>
                  <a:srgbClr val="ff9900"/>
                </a:solidFill>
                <a:latin typeface="Times New Roman"/>
              </a:rPr>
              <a:t>th</a:t>
            </a: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 June 20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Northern Lighthouse Board, Oban, Scot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7296480" y="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-NAV5/9/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4" descr="C:\Documents and Settings\ChrisM\Desktop\new buoy.jpg"/>
          <p:cNvPicPr/>
          <p:nvPr/>
        </p:nvPicPr>
        <p:blipFill>
          <a:blip r:embed="rId3"/>
          <a:stretch/>
        </p:blipFill>
        <p:spPr>
          <a:xfrm>
            <a:off x="6248520" y="0"/>
            <a:ext cx="1251000" cy="16002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4" descr="C:\Documents and Settings\ChrisM\Desktop\buoy 5.jpg"/>
          <p:cNvPicPr/>
          <p:nvPr/>
        </p:nvPicPr>
        <p:blipFill>
          <a:blip r:embed="rId3"/>
          <a:stretch/>
        </p:blipFill>
        <p:spPr>
          <a:xfrm>
            <a:off x="7696080" y="1752480"/>
            <a:ext cx="1535400" cy="14353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0"/>
          <p:cNvGraphicFramePr/>
          <p:nvPr/>
        </p:nvGraphicFramePr>
        <p:xfrm>
          <a:off x="0" y="533520"/>
          <a:ext cx="9144000" cy="53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Oban Sea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Hosted by Northern Lighthouse Board (NL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GB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to 13</a:t>
            </a:r>
            <a:r>
              <a:rPr b="0" lang="en-GB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June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NLB Oban Depot, Gallanach Rd, Oban, Argyll, Scotland.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34 4LS.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0"/>
          <p:cNvGraphicFramePr/>
          <p:nvPr/>
        </p:nvGraphicFramePr>
        <p:xfrm>
          <a:off x="7010280" y="380880"/>
          <a:ext cx="1122480" cy="146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80880"/>
                    <a:ext cx="11224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0" y="820800"/>
          <a:ext cx="9296280" cy="527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0800"/>
                    <a:ext cx="929628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028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Oban Sea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Joint initiativ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UK G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Northern Lighthouse Board (NL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missioners of Irish Lights (C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rinity House (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UK M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Maritime Coastguard Ag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7010280" y="380880"/>
          <a:ext cx="1122480" cy="146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80880"/>
                    <a:ext cx="11224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102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4" descr="C:\Documents and Settings\ChrisM\Desktop\new buoy.jpg"/>
          <p:cNvPicPr/>
          <p:nvPr/>
        </p:nvPicPr>
        <p:blipFill>
          <a:blip r:embed="rId3"/>
          <a:stretch/>
        </p:blipFill>
        <p:spPr>
          <a:xfrm>
            <a:off x="-228600" y="0"/>
            <a:ext cx="1309680" cy="16765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4" descr="C:\Documents and Settings\ChrisM\Desktop\buoy 45 2.jpg"/>
          <p:cNvPicPr/>
          <p:nvPr/>
        </p:nvPicPr>
        <p:blipFill>
          <a:blip r:embed="rId3"/>
          <a:stretch/>
        </p:blipFill>
        <p:spPr>
          <a:xfrm>
            <a:off x="1143000" y="1371600"/>
            <a:ext cx="1171440" cy="1440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4" descr="C:\Documents and Settings\ChrisM\Desktop\buoy 5.jpg"/>
          <p:cNvPicPr/>
          <p:nvPr/>
        </p:nvPicPr>
        <p:blipFill>
          <a:blip r:embed="rId3"/>
          <a:stretch/>
        </p:blipFill>
        <p:spPr>
          <a:xfrm>
            <a:off x="1523880" y="2971800"/>
            <a:ext cx="1611360" cy="134604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4" descr="C:\Documents and Settings\ChrisM\Desktop\new buoy.jpg"/>
          <p:cNvPicPr/>
          <p:nvPr/>
        </p:nvPicPr>
        <p:blipFill>
          <a:blip r:embed="rId3"/>
          <a:stretch/>
        </p:blipFill>
        <p:spPr>
          <a:xfrm>
            <a:off x="2819520" y="4191120"/>
            <a:ext cx="1251000" cy="16002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4" descr="C:\Documents and Settings\ChrisM\Desktop\buoy 4.jpg"/>
          <p:cNvPicPr/>
          <p:nvPr/>
        </p:nvPicPr>
        <p:blipFill>
          <a:blip r:embed="rId3"/>
          <a:stretch/>
        </p:blipFill>
        <p:spPr>
          <a:xfrm>
            <a:off x="3505320" y="3048120"/>
            <a:ext cx="1620720" cy="119988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4" descr="C:\Documents and Settings\ChrisM\Desktop\buoy 4.jpg"/>
          <p:cNvPicPr/>
          <p:nvPr/>
        </p:nvPicPr>
        <p:blipFill>
          <a:blip r:embed="rId3"/>
          <a:stretch/>
        </p:blipFill>
        <p:spPr>
          <a:xfrm>
            <a:off x="4267080" y="1752480"/>
            <a:ext cx="1621080" cy="120024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1:35:32Z</dcterms:created>
  <dc:creator>Alan Stewart</dc:creator>
  <dc:description/>
  <dc:language>en-US</dc:language>
  <cp:lastModifiedBy>Mike Hadley</cp:lastModifiedBy>
  <cp:lastPrinted>2003-12-11T15:09:21Z</cp:lastPrinted>
  <dcterms:modified xsi:type="dcterms:W3CDTF">2008-08-16T11:23:55Z</dcterms:modified>
  <cp:revision>58</cp:revision>
  <dc:subject/>
  <dc:title>AIS Presentation</dc:title>
</cp:coreProperties>
</file>